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2FE-F772-4504-AEFC-5E5F819E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F52-BC1E-4F3C-9A0C-9F162881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4AE-E8C3-4754-BFE7-DB349691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7E1-B262-4CC4-B305-AE1B58D3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AF9-F762-4FBC-B29C-69B44547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035-1544-4D6C-87F9-544E8C6C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51E-548B-405F-BB1C-10C48132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2BF-C5ED-48A6-837F-A010297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6FC-C18D-4FF1-B5D7-421E286B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930-1CFD-4E46-9633-95B41087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125-6AFF-4BDD-B15B-37EEBECF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3FD-B5D8-4ED0-B7AD-B2E9C817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AFB-4A27-4081-95A6-97D878AA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6:53Z</dcterms:created>
  <dc:creator>tatumadmin</dc:creator>
  <dc:description/>
  <dc:language>en-US</dc:language>
  <cp:lastModifiedBy>tatumadmin</cp:lastModifiedBy>
  <dcterms:modified xsi:type="dcterms:W3CDTF">2009-12-04T14:57:47Z</dcterms:modified>
  <cp:revision>1</cp:revision>
  <dc:subject/>
  <dc:title>Powerpoint </dc:title>
</cp:coreProperties>
</file>